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385899"/>
        <c:axId val="99580050"/>
      </c:barChart>
      <c:catAx>
        <c:axId val="773858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80050"/>
        <c:crosses val="autoZero"/>
        <c:auto val="1"/>
        <c:lblAlgn val="ctr"/>
        <c:lblOffset val="100"/>
        <c:noMultiLvlLbl val="0"/>
      </c:catAx>
      <c:valAx>
        <c:axId val="99580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858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C215-FE4F-475D-B4B6-72C113E1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6F9-7B1E-4DD5-8FA0-7938CD2E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D66-91DF-4092-8857-8F4CDA72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6269-355A-4C4B-AF75-D8549577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613-CCFA-4D48-A7C4-CEEF535C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7D1-8CED-48EA-8250-3E5EEEDB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3A49-8C52-48B5-BE36-73AE4174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F20-1FBF-48CE-8D8E-D7300D87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565-CF0E-43E5-8794-25D0DC50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B7EF-F341-4ABC-BEFC-BC12D9C8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D45-434B-45C2-8B23-122A7C1E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02F4-57B6-4A49-8F28-C97274D5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88692-EAA1-44B3-8B07-79172D5455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