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18846"/>
        <c:axId val="65505620"/>
      </c:barChart>
      <c:catAx>
        <c:axId val="74918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05620"/>
        <c:crosses val="autoZero"/>
        <c:auto val="1"/>
        <c:lblAlgn val="ctr"/>
        <c:lblOffset val="100"/>
        <c:noMultiLvlLbl val="0"/>
      </c:catAx>
      <c:valAx>
        <c:axId val="65505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18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086-8A68-400A-89D5-4473402D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FCB-0908-483D-93F4-CF222D85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88F-46CA-4B6A-962D-F221CAF8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ED4-4AF1-45FE-B491-6E9A8D4B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F58-8A0E-4B93-B03E-3AF81207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45D-DDAE-4DE9-BCCF-1B05814B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1CE-D657-4F8C-8993-9FC2F710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C0A0-F64D-463F-906B-A14CA25D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74B-C15E-4DE4-8787-A2645642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A82-5F3F-4BDF-BC4B-25CBB162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376-BAC2-4A8A-8B5C-FFE99B5E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48C-E295-428A-B125-F90DBFF8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B8635-6B29-466B-8733-0D410663E4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